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135739"/>
        <c:axId val="51512778"/>
      </c:barChart>
      <c:catAx>
        <c:axId val="413573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1512778"/>
        <c:crosses val="autoZero"/>
        <c:auto val="1"/>
        <c:lblAlgn val="ctr"/>
        <c:lblOffset val="100"/>
        <c:noMultiLvlLbl val="0"/>
      </c:catAx>
      <c:valAx>
        <c:axId val="5151277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3573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7A1B3-96D5-4313-AF9B-779E4CE85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8DAF1-74E9-4238-B802-02610ED51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14C5E-4D78-498C-817A-1B38B3E11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7034D-2931-4C53-AA43-5E267CB25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3C10F-5221-447E-B2B9-CE9C2277E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D184C-0132-4F02-B09A-02F3C5C42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37416-FDFF-4A18-9D3C-11B317891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EA46E-94BF-4DE9-A29B-B50FDF010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611EF-2A29-4A82-BE17-87120CA2C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60C44-B5C9-4144-A74D-29353B51B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98EDD-1798-4494-98AE-9FC92653A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7DA98-16A3-4450-AF75-87476BE96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A5558F-8148-482B-8C98-53142408D3A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