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27183"/>
        <c:axId val="85729219"/>
      </c:barChart>
      <c:catAx>
        <c:axId val="84527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29219"/>
        <c:crosses val="autoZero"/>
        <c:auto val="1"/>
        <c:lblAlgn val="ctr"/>
        <c:lblOffset val="100"/>
        <c:noMultiLvlLbl val="0"/>
      </c:catAx>
      <c:valAx>
        <c:axId val="85729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27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3A3-B3EB-49EF-835E-B567D677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5EE-6710-4210-8887-1A372ADF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689-4B29-41B1-8E01-AAAC20A2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D3E-C050-46DF-B7F9-662C76B3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DFC-9180-448F-B2D9-6289D508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A35-FDC6-4713-94E4-0145F446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5B1-860C-4317-A2FF-DE6874C2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53D-15EC-45D6-AA9A-D4060CE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D74-EEA2-46DD-8EC6-CFC609A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F6D-8C2E-45F3-869C-FE3AB25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93D-BDAF-40C5-A370-18A32506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A83-F522-4139-AB39-925D1396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46BBB-A05F-4901-B476-69A1662F01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