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55470"/>
        <c:axId val="67716233"/>
      </c:barChart>
      <c:catAx>
        <c:axId val="551554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16233"/>
        <c:crosses val="autoZero"/>
        <c:auto val="1"/>
        <c:lblAlgn val="ctr"/>
        <c:lblOffset val="100"/>
        <c:noMultiLvlLbl val="0"/>
      </c:catAx>
      <c:valAx>
        <c:axId val="677162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554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7B26-D3C6-4B74-BF19-4CE68A0E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931-BE19-4126-B54E-5390763A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FEC-6938-4151-B35A-310889C4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EAF-E856-45A8-81CE-93FD69E4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C4C-03FB-4AFA-AC54-19903B25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AA3-1621-4EB4-BB37-6BA6303C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35B-C08C-4776-9C98-DE7188EB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CFB-C49A-4115-81A1-9C998270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00D-C57B-429D-8824-01A97439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BFA-0314-4FA8-A36D-4C47F136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0ED-A2C1-44D8-AC07-E5753D6E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5A9D-A42C-400B-BFC7-2B0B3324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99F51-6993-4AC9-8FB7-9CC68F551A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