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82245"/>
        <c:axId val="74596358"/>
      </c:barChart>
      <c:catAx>
        <c:axId val="75582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96358"/>
        <c:crosses val="autoZero"/>
        <c:auto val="1"/>
        <c:lblAlgn val="ctr"/>
        <c:lblOffset val="100"/>
        <c:noMultiLvlLbl val="0"/>
      </c:catAx>
      <c:valAx>
        <c:axId val="745963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82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D5C-D161-4C33-A499-77005624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6DE-ACC8-4442-BFF3-18978D9E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2829-28A4-4F0D-95E8-C713DF26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880-CA6F-4D02-AE00-E10A9F7F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202-9906-4FCE-AC67-296E67FE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B0C-CACF-406C-864D-299826D6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132-1489-4E01-9655-2F98EA9B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A90-AF03-40BF-B980-C7CA114F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139-5455-4861-B4D1-0C5DE17A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26E6-A5E2-413D-9EA4-4B9E5CCA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7535-9B91-4A23-A8AF-3B4A04CF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50B-70A9-456D-8024-DE3F22F7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DD972-C8CA-4EA4-9681-DD3C899F00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