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22478"/>
        <c:axId val="44382825"/>
      </c:barChart>
      <c:catAx>
        <c:axId val="51122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82825"/>
        <c:crosses val="autoZero"/>
        <c:auto val="1"/>
        <c:lblAlgn val="ctr"/>
        <c:lblOffset val="100"/>
        <c:noMultiLvlLbl val="0"/>
      </c:catAx>
      <c:valAx>
        <c:axId val="44382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2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2E8-456B-4C5D-99CF-4BB55E7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444-7D8A-41AF-977D-699CD61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38D-3714-4E41-B800-3A59B855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4EC-B53F-403D-BE93-96BE5D1D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678-F954-4580-BA3C-EA6BA7E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730-3024-4EC3-8EB7-4F5D31AD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13F-5B5B-41E8-AE0D-63AAE9D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383-E1F3-462B-8B42-8CBA45F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7B9-EFC4-4ED0-859F-3264058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5DC-3682-41DD-BF6B-BBA3A43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F85-4B45-49BC-94FE-1163F97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07A-0E67-4CBD-8157-0BD1B7B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3CE71-8E57-411C-AE42-C84221DD9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