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BDB-38CA-4315-BCB8-2D9CC584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643-1950-4670-A863-DC5E9D2B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89F0F-4779-4CD2-93B9-4EDCDC5A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CE819-902F-4CF1-B089-2537F715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589A3-0FDE-4ADF-B04C-513F5851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73877-1E5A-4EB0-B9E3-CD0F740C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A7570-1AE8-45E3-A3C9-7D07DC15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EA797-BDEA-4F22-9A10-5EE4A7E3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ECC4F-98E6-43BA-A950-A30F6E86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54870-4C16-4411-9AEB-4969BA6A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27A56-86EB-4A4D-A954-D6734CBD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46A5ED-31D3-4A69-B0F3-7C2523E1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310-C645-4131-8272-776E4ADD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B64D5D-B37B-49E3-BBFC-0E8706B8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A3CC77-4799-452D-829B-FFC0808E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EC9A09-651A-460E-B9FF-A7E4F613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40C0EF-307F-4496-81E2-9F805994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CEB1D7-C9F4-481E-A8D1-7E0AEE9F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33CDE9-7975-485E-850F-1BE1F97F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7C992C-62EA-4D21-BEFD-A3BE2A97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F78286-4C60-4769-822B-862AD103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2A4550-231C-453B-94FC-B7CDD270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5F0FC3-A10E-4644-AF1D-A8ECC9AA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44F-8E95-4C12-AF5B-6A950B81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F5547B-D752-4BC1-B6B5-6D2741C4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45925-6D0D-4FA9-BD50-53C7E201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A7D75-ED30-4AF5-8D19-17F01BCB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B35A6-4CB8-41E9-AE9A-D4479292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7637F-33D8-4898-B4B4-5BA5AEB8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E3BD0-FF6E-47AF-B32B-7EE90645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DFFE0-4A41-4361-BBC5-8CBD5DAF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C9EC2-49B8-4258-8395-D8F321A5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9D34F-DE61-4D23-B984-104C1779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0441D-C242-43C3-90FD-82566CA5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3E68-3C1C-4AD1-B66F-B83B4F5E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3305E-7835-41CF-9BF0-AB397B6F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4F413-4FD4-4BA3-AE3D-15F195E6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96C3D-2E8A-4212-826C-BD395500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C3D59-489D-4580-B17A-5C44C61E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B3DD2-7516-4128-B883-D2E5BB1C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6D5C7-4DC7-4C1C-927C-1E2AC7F8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9E165-199A-4647-BE22-809DDB5B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E854F-1C78-4EFC-A7A4-17A4DE62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F3EBD-BB1E-4F93-BDB1-284332A2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3B9D8-27AF-4499-8403-E4FEC7FB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0B37-60C2-4152-BEE6-A971E63D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2CF45-E845-46C6-80D5-0F16ED26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29F49-F9B5-434C-BD37-1F284416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C8360-5794-4959-9EAC-9A75B9BD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55A5D-F668-4955-B025-D01F118A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24511-2D05-40C7-AC75-62BC7578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B11C-A264-41C5-B9F1-59C86F83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FB73-19E8-4712-951D-0D6A5FB3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1BF9-3BA1-4F09-BA4E-0CE2EB96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B633-1C41-4E8A-9753-61284790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7BDC-43BD-4260-9CDD-29AF66B8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2C9-9783-4E05-8871-CA8C446A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77B5-22F6-4E3E-B13C-95D903DF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5672-7329-4C0B-8A16-C4BC9015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0283-E04A-4C14-86F7-FF5CBF4F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9D9E-6E4A-4C8C-879B-551852C9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B37F-B89F-41E4-81F8-08410F05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6FBA-1A1D-430B-BF1A-A3651F46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0B9F-9177-4B72-A7DB-1F3FD525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AAB4-B25F-44F0-93F2-196161FD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3A64C-3406-483A-A9B4-151CC2EE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A9B33-AFBE-4D1F-AE85-9549FC65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017-7180-4B78-B299-F813B58F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930A5-C8B7-411C-8F97-B4099AE9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6A24-6011-422A-834F-57D56E23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3034D-2ADB-4C7B-B0DD-E7206C3F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8F2C-718A-4EF4-890A-4B98F1E7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E93D4-00AD-4D3F-8066-4848B724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A2EE-A750-4C93-8024-28F78ACE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147B8-D9D5-4F6E-9427-33C9F382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A1FE5-1CB3-43C2-8A94-BE14DF95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9B1B7-8715-4744-AAAA-ABE5EA8D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1295-C8C7-4CA0-A13E-8D9F6043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878-CFD8-4CBE-A267-CF84A37C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81AC-1EDE-4051-B056-0FA2F07F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119F-EB7E-47A4-BB77-52F9B6AA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47079-E127-4CB6-A08C-939CBEC0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4EE35-0B2E-48FE-BAD1-65222D87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FE697-F16E-4472-B165-1290ED94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C2C20-BD6F-4B0F-B081-379003FC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225D-2205-4283-88BF-C0BFEE89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88B21-2AE0-46E9-9A76-2A4DD888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23FC4-C6AF-421D-B3F3-A07CB0B6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F01A3-84E5-4EEE-AB57-9A427162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FB3-0D49-4E87-8540-0B6BAB8D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9C04A-67E4-496A-959A-699AB60C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4A5F1-5DAB-4C53-8EBE-6FC8696D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E7E63-2749-4C34-A9D1-7C13C88B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E94CB-1585-4D46-89E5-4895F6F1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A68C1-8E0E-4CED-B4CD-2B05817F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32AB6-4C86-4EC6-BD1B-97AD3F6A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6F5D3-AF22-4319-A1F5-19493748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3B8D1-B227-4DA9-8D7C-798C8E15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D6BEFC-A874-46EB-B4E1-A5A8B9EC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BD701-47E7-4F4B-B4F9-10E92744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737-81D8-4C7C-AE88-3AB34795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FBC20-0999-4C36-BCCC-9DA628B3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872F3-976B-4C48-8873-68759158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F6AA0-91B2-4225-AE3F-790D7A79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508DD-A0C7-4857-BDAB-5E3599B4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C8F89-7650-4D17-AE3A-EFBACC7F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6EE14-1D37-4D30-BC97-32EBC890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FE25B-2CB3-400F-903E-CB06006D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72722-AD49-48A5-865F-387D37DC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486E3-3172-40CF-B718-CBA237D6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64F3D-682E-45DA-804F-A9D7D1EA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D9C-20CD-432A-893E-E711E498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059B5-2CE5-43BE-8073-2938C32C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11C1D-8539-491F-B4FD-603A8E8D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D3E29-61E0-48FF-8620-E587D9DF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73FAF-8993-4A1B-AC24-56A27AF5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482C1-5A50-4538-9646-1A1D3991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56FBC-6D8A-46AB-A15D-CD28738E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A80A4-AA18-44E3-8C4C-23BC3C05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85F3E-14B8-4FEA-B24B-BAF4B9B1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3F9BF-E813-42D9-8F0E-44D32B5E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32940-FD84-4796-89E1-536F7A0E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526-D86B-46EF-AA92-AE5DD136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136A7-B403-49A2-A42F-DE3B025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BDA0B-F6C6-4A4A-A97B-1AE2C2D0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DCBE2-02C1-423A-BC31-BD988BAE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6B22E-9A1B-4C69-B585-A7DCE2A2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DAF55-2717-43B3-BB4F-3D81DA4A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ADCE2-D8F3-4727-A362-9E750DBC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23021-A169-4D2B-8ED1-A3C160D8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89262-F67D-4FEF-9C02-DEB3B516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2EF71-04EA-41DF-B608-AEBD7DB7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91D03-99E3-44A3-B9BB-B9FE6A3A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135-EE3E-4BBF-921F-30835D88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147D6-6F2A-4BFE-BDE1-FBB474FF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0CBE0-2782-4E85-A018-EA58B70F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89A38-07FF-4216-871A-A6871235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3FB3C-B5D9-4E51-9A9D-7308099A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1A518-4EF6-4842-B58D-04CFDB1B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B1F2C-BA7F-47A4-BFA6-8248ADAF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0ABA6-8FBE-4906-9BEB-E4C9D063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86BE9-F0FA-4C8B-8E73-3BC8951D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50A66-179D-4104-94F4-DBB98746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E7CDA-680A-4F59-985E-01D4FA96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C320-BBE1-42CF-BC13-519C53BD725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7E6E-EF36-476F-BA3E-226209F084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57D3-612B-40B3-A6C1-72AC52CE96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584E-017D-44E4-A11B-210405C16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5FA1-4DB9-48D9-8F12-49DBA95A36E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060D-2716-43FD-A8BA-1F16AF47EAA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62F1-EDAB-4CAC-A15E-D20122F3ABF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4D67-4620-484B-99A7-70947E0C768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D664-45F8-46B1-BFC8-604C9CE3CEE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C59D-1609-4508-8175-E599B0D790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C4DF-EB45-48D2-AB77-C787F70EB1E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808C-5E87-460D-8FFA-5238F4F25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7C75-8AE8-4D2A-A950-DDB2B49002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3FD8-DD80-4762-AE7E-38B99BD8F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96D0-36B4-454C-A56C-2C16B5A8E62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F4F8-42A6-47A2-9444-38F1723607F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3B5F-8B52-40F0-818F-9EBE26DCD94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5C51-44CD-449D-BCC8-0571FF91FF5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EE8E-A5C3-4518-84E8-25669527240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2E56-B783-4D09-9184-2E2A777789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A586-D44A-4896-AD8F-C372B8904E3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12D7-8D5E-493A-9CCE-39D678B3A74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5EF0-F9BF-4D0E-96C0-B1AF47F718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DAF2-E6B9-4B20-AB69-C8B52E771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C63-2A55-4696-89D2-7A05478A51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62EE2-2F10-4574-94D4-6F739CDF047A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20570-F1C8-4082-BA34-CA8455ADC1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B041B07-F10D-4DB2-8CAC-ED0F250E123A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C50B7-5519-4507-9CCA-F5240CD5CBAC}" type="slidenum">
              <a:t>3</a:t>
            </a:fld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C329F-6FB6-4E9D-985B-94D0138562C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6BED0FB-6EBE-467B-8620-41F118DEF59C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7D22E-D62F-45E5-B048-B2F60D7811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B5C6227-D63B-42CA-BE50-8EF10F75DB92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3AA52-62DC-4E22-8A46-12D40809CB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4884507-A931-4CD1-8E9A-42C462B25118}" type="datetime1">
              <a:rPr lang="en-US"/>
              <a:t>07/29/26</a:t>
            </a:fld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