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11274"/>
        <c:axId val="64731979"/>
      </c:barChart>
      <c:catAx>
        <c:axId val="52411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31979"/>
        <c:crosses val="autoZero"/>
        <c:auto val="1"/>
        <c:lblAlgn val="ctr"/>
        <c:lblOffset val="100"/>
        <c:noMultiLvlLbl val="0"/>
      </c:catAx>
      <c:valAx>
        <c:axId val="64731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11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7E0-766E-4F56-8117-0551CE76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73B-4773-4DCB-8CB8-27C51FFB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72B-052F-40DF-BAA7-6DB4B21B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462-4C7E-4717-95DF-6D3388E8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889-7E6B-4473-9D24-8D504CE0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3F2-0E33-4F74-8065-2D719A2D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947-8DBC-47D0-B27A-71ABC627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A6E-26EC-4130-8F5D-8E052723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20F-E142-40F2-AB38-56311D93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2D1-C1C5-4169-96ED-FB2EACF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50B-C31B-46C8-B70D-274E7890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BFF-EC14-4155-9AD8-44CF972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77CA0-16FC-417E-BAF4-E8EA2EB80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