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72062"/>
        <c:axId val="86654453"/>
      </c:barChart>
      <c:catAx>
        <c:axId val="668720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54453"/>
        <c:crosses val="autoZero"/>
        <c:auto val="1"/>
        <c:lblAlgn val="ctr"/>
        <c:lblOffset val="100"/>
        <c:noMultiLvlLbl val="0"/>
      </c:catAx>
      <c:valAx>
        <c:axId val="86654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720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B64-DC8A-43CE-B885-0421421D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F05-BA9A-4915-9F99-1B651CC3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B27-2C68-4A58-864E-9136AB74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220-3E26-40FB-A923-06198F69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22B-22F1-401F-A819-EFC1C39D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4D3-9980-4C2F-9033-C5DA192E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893-D234-4D0F-9A87-C4E22491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F8A-0BA5-46A4-B490-8C94BE2C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3DD-D7EB-4411-A3A4-35D1DA16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3B1-6BA3-41BB-9424-B7DD727D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9A4-9C17-4709-B87C-805F1440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80B-9B61-479C-8A6F-8917F108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0C003-EE90-45A2-BDDD-B4770ECD02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