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82825"/>
        <c:axId val="61602556"/>
      </c:barChart>
      <c:catAx>
        <c:axId val="3938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2556"/>
        <c:crosses val="autoZero"/>
        <c:auto val="1"/>
        <c:lblAlgn val="ctr"/>
        <c:lblOffset val="100"/>
        <c:noMultiLvlLbl val="0"/>
      </c:catAx>
      <c:valAx>
        <c:axId val="61602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8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A43-9627-4EAE-B466-9CFC243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523-AED5-426B-BD1C-E42BC16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6E8-083D-4F53-861A-3502B709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DD3-6943-460A-B9E5-3FBE7CBF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B4B-8D51-475A-B933-EB0662B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05E-87A1-4D3E-B09C-636D33D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C97-4A4F-43B6-94F5-229BD40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139-12B9-4F8F-AB7E-796A21B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DE7-69BD-4B02-892A-79AB601E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2F5-A826-4566-8AAA-CC7FAB9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7D7-FC0A-4CD5-8186-3590C2D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97A-50F5-4871-94D2-6954FC93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7A2E5-40A8-425A-9DFA-3BC1B9EE4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