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86912"/>
        <c:axId val="94666441"/>
      </c:barChart>
      <c:catAx>
        <c:axId val="48386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66441"/>
        <c:crosses val="autoZero"/>
        <c:auto val="1"/>
        <c:lblAlgn val="ctr"/>
        <c:lblOffset val="100"/>
        <c:noMultiLvlLbl val="0"/>
      </c:catAx>
      <c:valAx>
        <c:axId val="94666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6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09C-68F6-4D56-8376-03F95065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8B9-842F-4495-AF0B-4C6D90F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5EE-AF1B-4466-B1C4-45D1D4F2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944-9880-4A66-A126-BA7432A5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802-2836-4219-BCCC-A0FA11D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5AA-98B2-4166-A59F-61054866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63E-1F35-405A-A7C1-5CC65F5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237-96CD-4751-9F22-71FD0EDF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C09-06AF-407C-9384-61F79165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795-9DB4-4F2B-9BDA-7A0FE120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A19-EE0D-44DC-906F-C0EB4E6B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BBB-841D-4775-BEB3-34A564B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3C33-A479-483D-BAE7-B8EF5D6AB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