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87983"/>
        <c:axId val="12817669"/>
      </c:barChart>
      <c:catAx>
        <c:axId val="614879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17669"/>
        <c:crosses val="autoZero"/>
        <c:auto val="1"/>
        <c:lblAlgn val="ctr"/>
        <c:lblOffset val="100"/>
        <c:noMultiLvlLbl val="0"/>
      </c:catAx>
      <c:valAx>
        <c:axId val="128176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879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574B-8531-4E16-9D43-C5F871E9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57D-FB3F-49B2-AF23-3D71BD73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C5D-819F-451B-BAA9-76698493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BC1-846A-4B20-B4E4-90D75F7C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1C3-D312-4640-86F3-88CC2CBC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146-74D0-4B5E-B3D4-45E1504C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D65-E82F-4B5A-88DC-1F5C8B82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D990-DB28-49F0-BE86-61D3B391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587-BA84-436B-A27B-8F6D0362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A12-D194-4B04-8C85-AE680ED5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6590-CDED-4B5C-AF0D-1843F577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B12-2883-4ED5-9B23-8D9DC221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5C8A6-F2C6-4160-8768-DC32723537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