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60118"/>
        <c:axId val="16074022"/>
      </c:barChart>
      <c:catAx>
        <c:axId val="86560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4022"/>
        <c:crosses val="autoZero"/>
        <c:auto val="1"/>
        <c:lblAlgn val="ctr"/>
        <c:lblOffset val="100"/>
        <c:noMultiLvlLbl val="0"/>
      </c:catAx>
      <c:valAx>
        <c:axId val="16074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60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2D1-5830-410C-92A8-EB93E3E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34F-C303-43C1-B7D4-13AC6A5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E3D-9012-4D1A-A78A-3D88AB72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9C4-BF72-42D6-B2BF-A65DE4BE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9E1-5066-49E1-B041-4DAC04C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CF5-2781-4D1B-BE6D-6EDFABA8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4DD-CB47-4A33-AAA6-E10EC0E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CD6-D1AE-46A0-AE74-640A7BF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E3D-859E-4381-8878-5740E1D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1E3-7491-49A1-8E94-21D9F92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D1F-B8D7-412C-AA2B-7FA06457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0FD-0F78-427F-B3DC-C9A7324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1D070-73C1-49D5-8513-3765BE420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