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40586"/>
        <c:axId val="63788006"/>
      </c:barChart>
      <c:catAx>
        <c:axId val="50240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8006"/>
        <c:crosses val="autoZero"/>
        <c:auto val="1"/>
        <c:lblAlgn val="ctr"/>
        <c:lblOffset val="100"/>
        <c:noMultiLvlLbl val="0"/>
      </c:catAx>
      <c:valAx>
        <c:axId val="63788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40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E3F-92E9-4C05-B0BA-5ADEC501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45C-3693-44DA-8995-F34FBF0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975-8122-44F0-B226-0C872817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8C1-D659-4A30-B2AB-B2309CA9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1E5-C707-408E-A3BD-1CEF319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6D0-8831-4AE3-8150-DBD55CA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C3F-72A6-42D4-B614-59C960FB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C53-7B9C-4F3C-9883-3C1CE7F3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7B0-0008-4FC4-A1A2-188E6C0D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B48-44DC-4917-8B5D-21AC38F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B93-A6C9-41C5-B128-4DEFE3A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6B7-B13E-4F94-8A99-3BE8261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B498-CB70-4EFE-AE2D-D30AE04F1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