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F7B738-93A5-40F8-B21D-3D8F724861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901821-96E0-4850-B58B-AF6B800CC1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F3EFC0-5F2B-48CA-9FC8-51BD8615BA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4F9137-FF22-4FBC-AE4D-975AFD04F7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CD9847D-C903-4C7C-A8C4-AB526612504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81B957-8F81-44BC-8C41-A8B8E09082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503129-30FB-4B91-A9C5-81C60B1F8D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852152-AEF9-40CF-AC16-39EDF893D5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538CD7-3494-4769-9978-B27CD8B29A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8924E9-EBC5-4AB6-A1A1-2E95B7B5F0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C0695C-9A9D-40DD-9EA4-3B869BE9C4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6386E2-4D9F-40AF-9D92-B6E6A87D78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8119F9-349C-4130-A5E3-4112543B8E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B8D977-96CF-4479-95E2-144F6B54EA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0C9DB0-A566-4742-9390-5DAD81E81F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507A440-0A83-466A-9CA8-B55049C19C3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29F4445-0362-4480-A8AA-41C7F2AB38B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E0F497-1AA0-4359-A5EF-C43F181FF6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BF44CC-DFED-40C1-B49B-124912821F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B2BE2F-A4C0-42A3-9403-0986F721C6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FFE7A3-7887-4BD5-ACDC-7CE1DAE431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4F75C5-8F9C-45C5-8B44-2C74F61A1B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54EFDB-CEFE-4B86-9D05-74FAD6CD09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B47237-F1D5-4672-B0EC-35801EB000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FE1137-DBF9-4E35-80D4-E56AE7D70A7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59F5BF-BBF4-43B1-AA23-DAF4B8E8B9C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1BBEA39-B3DD-4E7A-BD25-6E5B2216ABB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E9796D1-C0D9-4BE0-BD96-5AE3C9CA2E76}"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8CA297-E389-4701-A75C-707F37487E39}"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A2A580-73F3-4D3B-B415-4EA2F9578C3B}"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A6BB2C-968D-4159-9CB5-4311DFF14151}"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E52A4E-F6E0-43E7-8891-6D8559BD3EB0}"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E7EB43-E0CC-4EC9-B678-9C18294D345B}"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9D2FBA-6D63-4214-AE31-5EE545F8CA25}"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14343D-55D9-49FB-B9CD-DD279569F2A7}"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F750B0-7BEA-45A7-9ED6-56AD44068E43}"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8D31FE-3F26-49F5-B4FA-CB0DF76617B5}"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613229-4247-4D1C-B75A-D05EA5ECCEF0}"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4FE308-9782-48C8-AB3A-C1E1A5514DED}"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9CCC3B-5C02-4B21-80A8-9046DA900FD3}"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DC04EC-CCF7-400E-98A6-A51A8C002E82}"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BF686C-5B44-473F-B701-A6EF63CE6766}"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FE9EFE-CD75-4B3F-A056-204472C325AF}"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931CBC-4ABE-4699-A6E1-0A55291F468F}"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2866D8-FB8C-4C53-8564-C91472277AB7}"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621596-D34A-4ABC-8723-50DB80E2DD38}"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F629D0-73EA-4255-8AC5-BC93754B480F}"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8080AB-4219-4469-981D-432CC78B9295}"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4AA2B2-B064-4E3C-9531-1102ACC9D834}"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59D0E1-E516-49DE-9120-07F935F5EBE4}"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9252DE-823B-4595-A680-660409CCBCB5}"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513E7C-0C6B-4DFA-A8DF-81F0DCD95B8C}"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BE763B-1D9C-4BD7-9459-007D6B452F3A}"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83CFFAE-AF7F-41C3-9FBD-790140C34629}"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D82A4F-60E0-4808-B0CF-07F02F6FE1A0}"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37E757-F4B6-4B48-8099-568B37F64807}"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7E5DDB-1755-4FB1-9077-35F3F46D5420}"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9A3374-7252-4F68-BACC-AE2511EB3FD4}"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2A1FD2-2D8B-4190-A3EF-62507CD1CF28}"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19A817-D40E-49DC-B1B7-11DA437A88B2}"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BA8DA5-DBF4-4996-8936-56A0AF413C63}"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2E27AF-C593-48AC-B7A1-E83A6EA48484}"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BF6638-CBF1-45E2-91D2-9253F9887342}"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9B9B77-1C61-4E16-B9BB-FD3F51BAFD02}"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2D4AAF-2260-4E7C-998D-93115C32013C}"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355764-C53E-4599-A482-024250CD5857}"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406317-C533-45CE-8148-BF69B23C7BA7}"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D11589-1B31-4A21-A852-43D769B648E5}"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A91BC4-4A28-412B-808D-6ACD0C4952C3}"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E6C492-DC87-4E90-864F-6A2F5154CF67}"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904AE8-1B84-4D06-A1C5-C316BADE8A47}"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96AFB4-5AED-4E09-8507-801D8A1C3E33}"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C6ED3A-82C3-444F-A703-B690C29934F6}"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9DCDFF-B7F7-49CF-B86C-2BF59925E426}"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A84669B-27E7-46A0-A0A5-DA1866D70B42}"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63E8DB-735C-424D-8B61-A52940BF5800}"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C2E878-5C88-4E88-AC1B-5A90134F290D}"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0CF1EED-DE10-403A-B23D-1836C90BC642}"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4FAEB5-DECB-41DA-8119-FA89CC1FC9EB}"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A5B632-AFEB-4861-9FD9-86F0980D24F7}"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242A40-AB92-49F8-AFB3-FD76803DF6F8}"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DD75B1-EFCB-4F69-9B8A-F991A28935A1}"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7F5DD2-2E52-46B8-9D1A-422C67F7768C}"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9BBD0D-97B4-4312-BE0B-874BB9A1D863}"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A72AD2-4D73-4AD1-9BF7-7F00ED1E6912}"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24AF211-9C5C-49ED-B608-C5DC8C3E9B0C}"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FEB05C-971C-48DF-AC7F-81E056C395CF}"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D327CB-31C5-4530-B176-DEEFC83AF723}"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E68B11-FD3E-4925-8CB3-7580684B8380}"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400EAB-FAE5-4B8E-AF9E-C94291C83B66}"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430210-6D52-41A0-A413-11760424463D}"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C83B677-BE83-4027-910C-8ECE776DAB07}"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A874BA-BC6C-489D-AD7A-E424045BB1D2}"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713C6C-57DF-4537-974A-F3EEFC1ADDB7}"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2BD08E-2D0F-469E-B778-F608EAF8B783}"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E4B655-61B6-490D-9F80-4B09B2F96C34}"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1F55547-A0F9-40E2-AB69-301FA38EB862}"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4F46F5-16C7-4518-B688-1D8F9A637012}"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72951A-F9C3-4B2E-8DFA-E90656821178}"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28A5B3-FD73-4C1E-B822-1233EE14B155}"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D92AFA-7A01-4659-A2BA-A4935EFEB16F}"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85C9C5-57B9-43A3-8F47-3849BF87AA6D}"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6AC3F6-EAA5-4AA9-AC93-25C038D341FC}"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65F164D-05D4-4048-9C71-402D93BC63E3}"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168376-DEFF-4253-9B75-5226E912E763}"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95F70D-F9F1-482D-AD7C-2A2D9B8BFDA8}"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506A98-12D7-4DC1-A0AF-C95F9185045F}"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F539A4B-8D0E-49DF-8685-FAB782CDF6F0}"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05A707-B486-4CE6-8B80-6E1C95C2C20D}"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B37D6D3-97F3-46C4-8D52-4DD79935AC19}"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7F6686-0C10-482B-89B5-4EB2006C0273}"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821EEE-62F8-4CE7-9A6D-D581250FD474}"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6FAC08-F1F8-4179-8954-F5D0E0F02184}"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68F1BF-49AF-49BA-A7CE-033F11EB56F1}"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D7A62D-408D-48BD-AD9A-073AA3A0E8E1}"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882124-F375-47DF-92A6-F4BB6DE719D7}"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6F5894-1B57-4A1E-A8DD-CEC994485EB4}"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2362D5-66AD-44E4-B056-D3E648FC6E8B}"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903837-0E1F-4C11-883F-C31D157D2A66}"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0CBDE3-DB6A-4B94-9568-8222F7D6EB12}"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EDE786-37C2-46DB-8DA3-F144427F23CB}"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125F9E-9D0B-463C-85D2-0FC37C4B372E}"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3A0EF7-F39F-4D4D-8FCD-5DE4E3098857}"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742294-6408-4D65-B730-CBF648D3D96D}"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9DD6D4-30D2-4450-9E2A-2902AA8DF67E}"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441E033-AD8B-4BF2-9D5B-E4FBADE7A0DD}"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E01B44-30FF-48FC-AB95-6CACB0B63155}"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D22191-0D03-404F-B3EF-F06845365824}"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F9269A-C21F-4FDD-8B4F-16E8BD38F2FD}"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5D7651-BD7D-43FF-B531-B5FA072E5CDE}"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2387F9-97DC-4F35-8EB6-30CF580A7531}"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5C4B94-2A6D-4F99-83D9-1581781E9F29}"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60A612-D008-4A08-825F-4C12AAC6B223}"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63B44C-9C03-4B34-A14A-62AC54C30707}"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F63C89-D78E-4616-9251-0C5D8B91B120}"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14C576-59C5-45E1-A51A-374D0994EE09}"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19D708-E207-4888-A989-1F27AAFD0E80}"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ECC9F9-1AD8-4F3D-A911-D1A20BA117C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0D2945-C8A4-4C4A-8079-64783612FD00}"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503CD3-0C00-4237-8AF1-46354F177736}"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DA3876-9D38-4936-BE45-A99E0F742A85}"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39D3F2-5C43-4FC9-B312-552FEEA524DE}"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D7345F-1718-44C5-B976-26B5DB4DC943}"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BAAE48-5683-446A-A814-113959504A30}"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5C190B-AE38-4B83-BC55-BB83BF86583A}"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B535F8-8AE4-4A35-90F7-83937D831BFE}"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D2C9BB-0045-4C83-AA34-E0B31E416982}"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8E608E-9D90-446C-A258-4E89709BDCCC}"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7A1F7F-DFF8-46EE-86C3-A456FDBE8DCE}"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09FA74-5915-4A7D-99D8-B0DD5DA45C66}"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32B76B-3AFD-44F8-820F-47AF1E64CD14}"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EEBBA2-FFA2-4A69-8C28-967150ACF874}"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0D6AC9-05C7-45F3-B8F6-9BE390B4C2B3}"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F9E2B00-110C-424D-9D2B-A9DDC9A6AC99}"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65353A-E692-498D-A4CB-464B3800D60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DE0051-2D0A-4DF5-A67E-83B65767E42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708227-8403-4BA9-B400-567A16894E5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F057DD-34E3-4288-B29F-281703E67BD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D1364D-01A7-4EB9-83C5-F21883D8624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9B13A6-BFFC-4F17-8088-FEE4D36999D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53B80ED-873E-4DFF-90EB-709EE069FD5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FAB2DD-1670-43B1-A724-D154BB688A4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3D77CD-A9CB-4258-8019-2FDD4F2C2BB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B11917-2F64-489A-959B-1F3D3CAFF9C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5B1415-060F-4DCF-9F2A-E26D8406D8F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10ABEB-87B1-4724-8272-5176D69F0C4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E41736-574E-4F76-9B68-FCAEB4873DB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50158D-1BEF-497B-9920-20A320F7FA9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A4C826-8916-4B84-B684-700FC68121D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DBD982-8C13-489F-A06B-5E12BA71BAC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06819E-B042-4489-9C3A-F06B41B82B4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5FC3EF-CB61-4B51-9BA4-53CC38DA63B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D2B473-761A-4D7C-A55B-3CE43531CA3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5C8E89-6B5F-4912-940E-1CAEF749247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26E887-55BB-4452-99A7-420D9EE0EF1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76B756-6B8B-4FCE-979D-ADAE5F5F81D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701AB0-DCBA-4110-914A-8AD03F694A9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77E350-DB44-4A1B-908F-FBEA81552F4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5A3901-CDF1-4ADB-90E3-5466B87F19E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2DA477-5E4D-4815-9A46-B75F3174FD5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E17190-4C9F-434C-8F2E-9DA113AD357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D9AFD3-6CA0-4F2F-8F22-9C6BE94013A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568141-B6A7-4F79-A7CC-38EAF365314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EC1D8F-9A1B-4EBC-A737-95AB2C8831C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969255-3385-4209-BC2A-2EC6EAFD74A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9933A6-FDD8-43AE-AED6-42C8850FDD6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384749-1AFD-4655-93AE-38B91C135C4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A0047C-15DC-492B-B269-9CDB5AE8318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493B07-E20D-47D0-B85E-672EB4CC99B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166EEC-D979-4193-BD26-2E7789CF987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9ECCB6-9CC5-4011-BBAF-F8344F341F1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8C3C13-4633-467A-AC0A-A8A423526D8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900541-C8B7-43A6-ADA1-032E952E098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B52414-4E1F-41A8-9E48-4C3557E7D8B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D24CC1-D2B2-4490-8EB6-DDEAD03068C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EFE3D5-92B3-408B-9A1C-AD30941B306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0E595F-61D8-4599-B7B6-48F0A46ED560}"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7F00C1-9E9B-4314-9BC9-7ED68AEB73B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828FD6-8367-4C70-8EC4-71E0F01CD8C9}"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4FD740-1CCF-4014-8F30-177F3E8E9AD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11BC59-844E-4588-A169-5D0DF065160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15DA15D-CCB3-46C9-8973-E4294E738F3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1EC524-2E4A-4123-8587-B557234CC60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D3E5AC-4F4C-465A-A920-9EC19CEB0D4C}"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6EA322-F449-44B5-A7E9-7A494806F056}"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A4C96D-B9D8-4B8D-9E42-1937C81E7C7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EC31AB-EAB6-4E6D-B9D8-4E229404004A}"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2429E7-2446-4E5E-9DE2-F7826D3E7936}"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DC6483-BAA1-471E-A405-805912B8288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DA4980-5003-4339-BBE2-408F43AC13A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066010E-B713-42AA-8EF9-94881C9EE840}"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C7D7BD-B89F-4C74-8A8C-F973335066B6}"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69772E-71CB-4333-87C0-EEEACB28DEC0}"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C3FC7E-4626-4557-92D3-5A2AC800350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A57712-B1FF-4603-B195-0C4156BDAB5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2DEC1C-B618-4951-90E6-64806E9756C1}"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DEA390-7F33-4CA3-B713-C5D210707DE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77BD0A-4977-402E-B1B6-9171771874F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3565D3-5176-4C29-9484-3ECEBFEDA4A3}"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42325E-8567-4A26-8FC3-3CCE79D5EFD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BED671-DA49-4CC6-9E37-571F0862EC7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6E2E63-B940-4408-B487-ADBD1666BC29}"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4D3756-D709-45E6-BF9D-C99035E778CF}"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07A3E3-787D-4F44-BE0F-0C54F0CCBE7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C37039-0E17-4B66-BA18-58CBAE97E7BF}"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8EF270D-4C6A-4721-9C4A-2AB9559DBF4B}"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5672BD-E372-4B09-ADA7-E58CB5323399}"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B996C9-5D41-491E-B25F-86C13BE336E4}"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0A1BC4-FDC5-4B18-A840-2AEB7C1E1351}"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080604-DAAF-4C9E-9DEB-DBC9223175D3}"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F64E57-CDE5-4949-9515-AFEB4A587AC6}"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3A416B-904D-4DBB-8CD9-4B252084348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C950CC-1058-4C9F-8DE5-845AE7AC5BA0}"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3A9486-583E-40A7-857A-C002698D31C7}"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E853EC-44AC-454E-8812-F6DF5E715A47}"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593B35-86C8-412D-9EEE-85DDB2F217E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EC0B94-5A70-4694-BA9A-78EF7A08DE06}"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C73DF3-EA12-4B76-90E9-AC62ED5859E3}"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4653D0-BD6E-4E87-AFDB-EB7F5544988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