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4708675-FF9E-4E5A-9CEF-E3603F11775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B7E285B-58FD-4C40-9A3B-38BE54853E6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C75546B-4282-44AB-A8BB-1B6AF328272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55DF75F-ABEE-4BAF-9547-77E50AFB0E4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BF16737-E14B-40A4-A4C3-4BFDF56CCD4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1D1C440-8609-4CC1-9981-9F398CF5737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85D1652-7993-40E0-86E1-BC8DFCEAC8C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329A812-7095-4FCB-8FD8-B6FBB0A8FCC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C30713A-BE1F-456F-AF50-AF787BCD1C1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B793FFD-3544-41DA-AF6F-7E28D53603F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AA0E7CF-9A5C-4685-9067-29D148813AA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0A21B04-D05C-4745-B9BD-AF684693223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036D4C4-CAA9-40E6-9E06-26FDDE6029C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E5621D7-DD71-46CA-B776-CE3FD303957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2B61A87-6CD6-4DD2-87A5-95CD057244A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3A063E0-E1D3-4DCD-AEA3-609D2B70984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740D109-DFEF-41BB-B8FD-978120E349F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FEC4DE8-2E8E-43E5-9213-A6D817C18DE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9554513-A953-43DE-9894-F7621035C07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A29058C-BBF0-4A66-8446-526DF61B925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AC104A7-F0D9-41A5-93F8-6673C2923E4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38518A9-4E10-4F9A-9F6A-57423BA2B67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836A71B-41C0-4EC0-859F-9953F4FA046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79A64CE-D260-4D6E-92C0-B225BD702ED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B2FD749-E430-4EDC-B093-23BCBCFE24A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B53F624-AFE8-4D17-86CF-2185126A784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50CA731-BCD5-4B85-ADC2-FAA02FE45B4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C2A022C-3B5A-42AD-9433-73D0ACAA1DA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7594638-D36B-44D5-A7F1-23EBA2D8F7E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E8B7F32-D015-4CDD-840A-DF6AB36B000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51EDE41-5361-4229-B508-F48D869ADBE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8DEB591-DD70-44C9-9734-9165D249F81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741E56F-9AE5-4B78-A1C1-88626A383C5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3C3F30-14A1-4376-A21E-DA490287A64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ED41BFD-868B-45FF-99A5-FE598DABCDF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E682A15-A1EB-422E-8BE1-AE2F9858AA5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0A8C4-A1A5-4BFB-8893-0AAD188046B1}"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BB4CB-0E9F-4316-A128-851D15601D85}"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2B19854-FC07-4C96-A86B-58E8B5C1ACF7}"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20408F1-3B33-4E30-8879-E3C93123CE80}"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A199990-3425-4903-9B64-AABD3335277D}"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3C18EB3-E336-4072-B925-7E364DFFC9F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63D4D73-AA41-4709-A223-79D9B91E9914}"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27DBFD1-D7D3-4333-9A4F-464D5BA76231}"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247BD9F-1D47-4689-ADCE-4B4C856EB41F}"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2A7B37E-7107-4A91-84AA-4378424CE33F}"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3EB6A9B-640F-4F07-98C9-F62FEA75F03C}"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9FDA1E5-3754-493C-8086-99725C3126C3}"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970BD7B-C80C-4DB8-96CF-ACFB6776BEBA}"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5E15FB64-D870-4A13-A4AE-4F8EA6352F7C}"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B50EE0C-38DE-4DCD-B429-C90D5C8233DC}"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B39B7EC-67B4-4770-A1DC-61F37F526619}"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97E9732-7660-452B-A8A3-758A76D82D6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9206023-1BD3-4379-AE00-0ED76EF3566F}"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8278B78-9B60-4871-B93E-869C8E2A217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CD3FF20-8D58-4C1B-9F49-3FF3E025B74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80FC3F3-3272-4648-8A14-9C35C775624E}"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E353E85-1301-452E-A224-6B4DC26A059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DA5AD8D-5F50-4CCE-9A35-A9BE542A715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C5DE281-EA6E-4FAB-9F50-336D83454702}"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1BAF586-04B4-4684-9B9D-A2687FF8C1B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FF8D434-5B95-4E03-86B2-DA35FBC73AE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C936E60-8540-43B2-89FC-26E849E1DBE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1DC7793-50F1-42AE-B5EF-09208715EE8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3384309-D46B-46E1-9F9D-AC7547BE1186}"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4B0C2C0-294F-40F8-9127-98C0AC830F9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F34FBFB-47E6-4F2A-9B34-51637419E6B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5FDB7CB-12D5-47A8-8A2D-E62421C318CF}"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FEB294D-7BE5-4CB3-AE28-6EA76E52034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A371D44-FF88-403C-86A5-FBE310FCA32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85DB0B8-64BB-4CD6-BFCF-A026F2EF0E3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2C6B7E4-1BAE-4F15-A0F3-62954E3C2CE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C7E7B50-FADD-48E5-A52F-77B3E065DAA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C6758C8-2216-4973-8E10-FE1CD72C330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A87195F-78FB-44AE-BCA8-AA70937557F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02A8E1F-C8FF-4CC3-B0A9-3FA75D58C6E9}"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9598B96-0208-49E4-879F-C052E681324F}"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92603E3-B964-4647-B058-21D16A3158FB}"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E85FD3A-897D-4635-B46B-B11328A33AE2}"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1FB86A2-60CE-42DB-BDDE-1F0767BB4C4A}"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4A1C624-95A4-4ACD-98EE-FD8E44C76DA4}"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05F2D41-16CA-4F83-871A-148CCFD1E385}"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823E4FC-17E4-44DA-9464-C7D5F1CC6B00}"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0B64686-FE17-47CC-9CF5-5C70A405862E}"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6FC13AE-E19D-4362-B541-12399E24656D}"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BD0B9E7-8877-4937-8156-19F2EEA6B8B8}"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D738044-9D61-4C46-BFB8-CDA00314A96F}"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C27C0AE-4149-49D4-AC87-C4F111BDE51B}"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4CE5004-E84F-4920-950A-28C98D1BE669}"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DC95E50-F57A-4543-810E-01FFD281BFB9}"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2479392-8ED6-4A01-8A0D-6BAE34520886}"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68B2696-7278-4C06-BB3E-075AFC2AA89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40FB022-132F-4E63-87DF-6C79CADE369C}"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767FF27-53EA-4EBE-9D7C-309DB8C2610F}"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2F95569-E9AE-4367-8678-50B03FF387FA}"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62E6DBD-1A4B-444A-A43E-C1B9E2E74A9F}"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33F7F47-4699-486A-B8E2-985D195C0EAC}"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C4743A9-3D9A-43A4-8A14-78F72BC00B52}"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273C2EC-5016-4C3F-A9E1-F00330492EA8}"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EA216D4-7803-4F6D-85F0-247D2ACA48B2}"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35DCE4F-98EF-41FC-9CC1-9A9C2F1BC8EA}"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DF78B22-9D4D-4F55-AC7C-83A7FDCEA1EF}"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5D598D6-25AA-4FF5-BCA0-DE2A6AA83298}"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D627793-2185-4513-9E0E-731FF137D837}"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A68ECF6-E092-4C6B-BD22-3F65C2667FAA}"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DC6BC11-40C1-4CB6-B488-96BC9823CF99}"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9095A10-8E4A-4AB7-86B5-A558743A8F88}"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ECE1A5E-F21A-401C-9925-4E036BFBEFD3}"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8467FD3-1FC1-4C75-9207-12AA50F8EBB8}"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42255BE-24F1-4CA6-B2A5-366D7A2E5C2C}"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95D95CF-9620-434A-A491-56D2C5DCD309}"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FB7DA2F-FE65-4EC6-A568-47FFCDC04D61}"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F8768D6-E569-4865-92C2-A6220EC002A5}"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95BE8D2-1D26-4A5A-BD68-D05479E6B581}"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5B0C798-1781-4E40-BB92-73D54F106A55}"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9875768-E083-4B64-8019-7654679B041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684A614-0C70-416F-83A2-5FD18AB87591}"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3584C7A-61B5-4540-AF1E-C646DB1BBB6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F0C47A1-2DA8-448A-B9D7-0B2D188BDC05}"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6E32D75-F817-4884-A8C9-47A0C7C073FF}"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8F2A068-148E-450B-96BB-94B0E25333C2}"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AA1BBDA-969D-4974-8D6E-E406DB011BA2}"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E7E5228-D5F5-4E0A-AFD3-B71D1CA05E2D}"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8447554-EA0A-45A6-89ED-93A49B9854BD}"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27F15B4-CE9E-4B7C-8DD8-717D5906C66B}"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800C300-87F0-4E32-B213-80433848F3FE}"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24DBDAD-E74B-4941-8B31-CF585304EDF0}"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7DA0CFC-2679-4504-8251-2CD49251E272}"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D37EEAA-8462-4965-9A34-1235D6FAB032}"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65D1D1C-D4B4-4097-A7BA-FA03A233F50C}"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819F670-E310-447F-9FEB-598AC22FE519}"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C6653D4-FEFC-4297-9E3F-86C673EB5AF2}"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FA10E79-C623-4449-A899-B16648EA0B2A}"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99ACACA-AECA-45A0-AD01-15CB78FEBCFF}"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83920DF-CCF3-453D-A3F1-D27E4D32F2DD}"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5E46D69D-69C7-4602-8A1C-6BCD89D8D196}"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6829D49-1F1F-446F-8958-8223A41B617C}"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13E5FB3-1B46-4405-9E80-FA13BDF10554}"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D6A075D-C215-47E7-A8EA-A365AE30E2BA}"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6213CE4-C3BA-4BD9-A711-BC5A1FB7D57C}"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60B87A6-90FF-4A38-98FC-80FB0F4EE7FE}"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40C5035-379A-4314-9E70-7585BA207D6C}"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E4690CA-6909-4131-8E34-59380BF6184D}"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AA4D380-64EB-4684-A844-4DC7A1566CB6}"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9D17F69-7857-4E5A-819C-82E7393F3372}"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ACFDC1B-9617-4788-A948-FDC5E93E5F8E}"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E0E7C96-5563-494B-B4ED-31C4B353EA16}"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FFB237C-E9C4-4D06-8A95-5509969497DF}"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71A68CC-B062-4725-BDAF-B57C1FE2789A}"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