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6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2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3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57BF40B-B479-4F5E-8E61-0EB7F48E0288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4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5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025B32C-CEA8-4F67-855C-FA43DE6723A7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98AA573-7A80-4F55-98E5-708ECF64653D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99CFAD2-E439-458D-96A3-4CD03C823B36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C0680F-76E4-4E05-A998-4BBAEC2AA3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8685D0-16EC-4524-BC60-FFDD7593E7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99306F-79EC-4AF8-A10F-87DDCAE5DA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2F46D0-9F63-47F6-854C-2E3C1C05C8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3F2F64-A062-4947-9F5F-591FE8B67F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C63C71-D7D4-4CFD-AC9B-1F4CBC31F7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424EDC-41E8-45E1-B0AE-2977DCD42C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B90586-FE31-4857-9F41-C032C4B4CC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A29CAE-1A01-4253-98E9-9764EDC4B4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6F2A94-E8D5-46E0-9BAD-569C228685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83999D-D99C-45C8-A144-EF2BB978ED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964035-CA88-4211-ADB7-0E76597984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CE28E-49AC-4875-BBB4-9BCA6E30E6AD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jpeg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04920" y="914400"/>
            <a:ext cx="8458200" cy="25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6600"/>
            </a:b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362320" y="3441600"/>
            <a:ext cx="42670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2209680" y="50418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0418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3657600" y="5118120"/>
            <a:ext cx="1752480" cy="762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8" name=""/>
          <p:cNvGraphicFramePr/>
          <p:nvPr/>
        </p:nvGraphicFramePr>
        <p:xfrm>
          <a:off x="5715000" y="5118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118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>
            <a:off x="2362320" y="4203720"/>
            <a:ext cx="4267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drian Coly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OOPSLA, October 26-27 2004, Vancou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C89A46-4947-4FD1-966D-E125D7134AB1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T for Eclipse (up to 3.0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4F3A17-25E1-4C27-A21F-57551FF48189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aking do without AOP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’re already working with crosscutting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2EE’s XML descriptors, generative program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 and refactoring tools can hel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t’s not explic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685800" y="4165560"/>
          <a:ext cx="5726160" cy="238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165560"/>
                    <a:ext cx="5726160" cy="23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"/>
          <p:cNvGraphicFramePr/>
          <p:nvPr/>
        </p:nvGraphicFramePr>
        <p:xfrm>
          <a:off x="5791320" y="3483000"/>
          <a:ext cx="3047760" cy="2917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91320" y="3483000"/>
                    <a:ext cx="3047760" cy="291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73E4D8-ED18-4FCF-8AA0-9093EC159497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posing crosscutting structur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5345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express crosscutting direct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irect semantics enable good tool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itor, views, documentation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: auxiliary aspects, view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272BD5-8C31-42DD-928D-D4569FD8F810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OP reduces system complex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s are a new language mechanism, so there is a learning cur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with good tool support AOP programs are easier to understand than their OO counterp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990720" y="3898800"/>
          <a:ext cx="4038480" cy="250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3898800"/>
                    <a:ext cx="4038480" cy="250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2" name=""/>
          <p:cNvGraphicFramePr/>
          <p:nvPr/>
        </p:nvGraphicFramePr>
        <p:xfrm>
          <a:off x="5638680" y="3314880"/>
          <a:ext cx="3068640" cy="3238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38680" y="3314880"/>
                    <a:ext cx="3068640" cy="32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636103-E144-4090-A990-7768776C0A93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What’s next?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28240" y="1219320"/>
            <a:ext cx="85345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va 5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refactorings will update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J refactor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-oriented refactorings will help with migration and ev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 vie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where you se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O structure you se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rrespond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4267080" y="4140360"/>
            <a:ext cx="4648320" cy="226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0F2D2A-5F16-4631-824C-2111F6210798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Other AOP tool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c: production, IDE inte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c: research, optimiz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ML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Werk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oss A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int point models, pointcuts, and advice are the common to each of the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32D942-1CCB-45AE-9C45-55AA5D30F894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y Clement, Adrian Colyer, Er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lsdale,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t Chapman, Andy Clement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Mik Kersten an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AspectJ in Action"/>
          <p:cNvPicPr/>
          <p:nvPr/>
        </p:nvPicPr>
        <p:blipFill>
          <a:blip r:embed="rId1"/>
          <a:stretch/>
        </p:blipFill>
        <p:spPr>
          <a:xfrm>
            <a:off x="7937640" y="1143000"/>
            <a:ext cx="920520" cy="110484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6095880" y="4819680"/>
            <a:ext cx="2743200" cy="165744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6924600" y="2286000"/>
            <a:ext cx="924120" cy="121932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4"/>
          <a:stretch/>
        </p:blipFill>
        <p:spPr>
          <a:xfrm>
            <a:off x="7942320" y="2286000"/>
            <a:ext cx="922320" cy="12193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5"/>
          <a:stretch/>
        </p:blipFill>
        <p:spPr>
          <a:xfrm>
            <a:off x="7975440" y="3581280"/>
            <a:ext cx="871560" cy="106704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6"/>
          <a:stretch/>
        </p:blipFill>
        <p:spPr>
          <a:xfrm>
            <a:off x="6934320" y="3581280"/>
            <a:ext cx="895320" cy="106704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7"/>
          <a:stretch/>
        </p:blipFill>
        <p:spPr>
          <a:xfrm>
            <a:off x="6019920" y="3581280"/>
            <a:ext cx="776160" cy="1086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27700E-24EB-4141-ABCB-58C7EA6E96B5}" type="slidenum">
              <a:t>1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ocket creation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ts nicely into one package (3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9CBDB5-9489-4603-B930-D035C1A30C01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pretty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ass load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ly in one package (9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2A3695-A992-4E03-B618-DE470D00710D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ot so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logg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EBC8C1-D6B8-4C88-AC5E-1F7A65E3276F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cost of tangled co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FE3475-8F3E-4E92-9FB5-754629236436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aop idea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93FC36-3789-4250-B8BC-C0C1317F63ED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role of tool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tools make code easy to navig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erence structure embedded In the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ation look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nheritance structure can be hard to extract by reading code al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pecially in large system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 who overrides this metho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8155B0-151A-4706-B857-D1BF4F408DAE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oin poin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3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Key points in program execu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 get &amp;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ceptio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ndler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atic &amp;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ynamic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6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417920" y="3200400"/>
            <a:ext cx="7984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:L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915160" y="3200400"/>
            <a:ext cx="94752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1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976560" y="381960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554280" y="35053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389640" y="3529080"/>
            <a:ext cx="0" cy="376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786800" y="3529080"/>
            <a:ext cx="0" cy="1598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792680" y="3529080"/>
            <a:ext cx="0" cy="282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792680" y="6058080"/>
            <a:ext cx="0" cy="43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389640" y="4940280"/>
            <a:ext cx="0" cy="1522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786800" y="5832360"/>
            <a:ext cx="0" cy="619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727520" y="3801960"/>
            <a:ext cx="127080" cy="2401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14800" y="358128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59280" y="3905280"/>
            <a:ext cx="1460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865400" y="4929120"/>
            <a:ext cx="1447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332400" y="3894120"/>
            <a:ext cx="12240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6427800" y="3909960"/>
            <a:ext cx="1171080" cy="466560"/>
            <a:chOff x="6427800" y="3909960"/>
            <a:chExt cx="1171080" cy="466560"/>
          </a:xfrm>
        </p:grpSpPr>
        <p:sp>
          <p:nvSpPr>
            <p:cNvPr id="138" name=""/>
            <p:cNvSpPr/>
            <p:nvPr/>
          </p:nvSpPr>
          <p:spPr>
            <a:xfrm>
              <a:off x="6427800" y="4039200"/>
              <a:ext cx="126720" cy="2628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458760" y="3943800"/>
              <a:ext cx="297360" cy="9324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752160" y="39099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465240" y="4300200"/>
              <a:ext cx="284400" cy="7632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6427800" y="4421160"/>
            <a:ext cx="1171080" cy="471240"/>
            <a:chOff x="6427800" y="4421160"/>
            <a:chExt cx="1171080" cy="471240"/>
          </a:xfrm>
        </p:grpSpPr>
        <p:sp>
          <p:nvSpPr>
            <p:cNvPr id="143" name=""/>
            <p:cNvSpPr/>
            <p:nvPr/>
          </p:nvSpPr>
          <p:spPr>
            <a:xfrm>
              <a:off x="6427800" y="4552200"/>
              <a:ext cx="126720" cy="2649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458760" y="445608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752160" y="44211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465240" y="4815360"/>
              <a:ext cx="28440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6454800" y="48769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854600" y="5127480"/>
            <a:ext cx="2860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4854240" y="6149880"/>
            <a:ext cx="2854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728120" y="5116680"/>
            <a:ext cx="12204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7823160" y="5132520"/>
            <a:ext cx="1169280" cy="464760"/>
            <a:chOff x="7823160" y="5132520"/>
            <a:chExt cx="1169280" cy="464760"/>
          </a:xfrm>
        </p:grpSpPr>
        <p:sp>
          <p:nvSpPr>
            <p:cNvPr id="152" name=""/>
            <p:cNvSpPr/>
            <p:nvPr/>
          </p:nvSpPr>
          <p:spPr>
            <a:xfrm>
              <a:off x="7823160" y="5261040"/>
              <a:ext cx="126720" cy="2617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854120" y="5166000"/>
              <a:ext cx="297360" cy="9288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080" bIns="46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45720" y="51325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860600" y="5521320"/>
              <a:ext cx="284760" cy="7596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7823160" y="5643720"/>
            <a:ext cx="1169280" cy="470880"/>
            <a:chOff x="7823160" y="5643720"/>
            <a:chExt cx="1169280" cy="470880"/>
          </a:xfrm>
        </p:grpSpPr>
        <p:sp>
          <p:nvSpPr>
            <p:cNvPr id="157" name=""/>
            <p:cNvSpPr/>
            <p:nvPr/>
          </p:nvSpPr>
          <p:spPr>
            <a:xfrm>
              <a:off x="7823160" y="5774040"/>
              <a:ext cx="126720" cy="2653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854120" y="567792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45720" y="56437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860600" y="6037560"/>
              <a:ext cx="28476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7307280" y="3200400"/>
            <a:ext cx="9478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2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4805280" y="3859200"/>
            <a:ext cx="200160" cy="2328480"/>
            <a:chOff x="4805280" y="3859200"/>
            <a:chExt cx="200160" cy="2328480"/>
          </a:xfrm>
        </p:grpSpPr>
        <p:sp>
          <p:nvSpPr>
            <p:cNvPr id="163" name=""/>
            <p:cNvSpPr/>
            <p:nvPr/>
          </p:nvSpPr>
          <p:spPr>
            <a:xfrm>
              <a:off x="4805280" y="3859200"/>
              <a:ext cx="200160" cy="112752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27520"/>
                <a:gd name="textAreaBottom" fmla="*/ 1117800 h 1127520"/>
              </a:gdLst>
              <a:ahLst/>
              <a:rect l="textAreaLeft" t="textAreaTop" r="textAreaRight" b="textAreaBottom"/>
              <a:pathLst>
                <a:path w="21600" h="121495">
                  <a:moveTo>
                    <a:pt x="3600" y="0"/>
                  </a:moveTo>
                  <a:arcTo wR="3600" hR="3600" stAng="16200000" swAng="-5400000"/>
                  <a:lnTo>
                    <a:pt x="0" y="117895"/>
                  </a:lnTo>
                  <a:arcTo wR="3600" hR="3600" stAng="10800000" swAng="-5400000"/>
                  <a:lnTo>
                    <a:pt x="18000" y="12149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805280" y="5080680"/>
              <a:ext cx="200160" cy="110700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07000"/>
                <a:gd name="textAreaBottom" fmla="*/ 1097280 h 1107000"/>
              </a:gdLst>
              <a:ahLst/>
              <a:rect l="textAreaLeft" t="textAreaTop" r="textAreaRight" b="textAreaBottom"/>
              <a:pathLst>
                <a:path w="21600" h="119285">
                  <a:moveTo>
                    <a:pt x="3600" y="0"/>
                  </a:moveTo>
                  <a:arcTo wR="3600" hR="3600" stAng="16200000" swAng="-5400000"/>
                  <a:lnTo>
                    <a:pt x="0" y="115685"/>
                  </a:lnTo>
                  <a:arcTo wR="3600" hR="3600" stAng="10800000" swAng="-5400000"/>
                  <a:lnTo>
                    <a:pt x="18000" y="11928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6400800" y="3919680"/>
            <a:ext cx="101160" cy="997920"/>
            <a:chOff x="6400800" y="3919680"/>
            <a:chExt cx="101160" cy="997920"/>
          </a:xfrm>
        </p:grpSpPr>
        <p:sp>
          <p:nvSpPr>
            <p:cNvPr id="166" name=""/>
            <p:cNvSpPr/>
            <p:nvPr/>
          </p:nvSpPr>
          <p:spPr>
            <a:xfrm>
              <a:off x="6400800" y="391968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401520" y="442800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7791480" y="5140440"/>
            <a:ext cx="101160" cy="996480"/>
            <a:chOff x="7791480" y="5140440"/>
            <a:chExt cx="101160" cy="996480"/>
          </a:xfrm>
        </p:grpSpPr>
        <p:sp>
          <p:nvSpPr>
            <p:cNvPr id="169" name=""/>
            <p:cNvSpPr/>
            <p:nvPr/>
          </p:nvSpPr>
          <p:spPr>
            <a:xfrm>
              <a:off x="7791480" y="51404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792200" y="56480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 flipH="1">
            <a:off x="3971520" y="620244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029200" y="2178000"/>
            <a:ext cx="1262160" cy="1787400"/>
          </a:xfrm>
          <a:custGeom>
            <a:avLst/>
            <a:gdLst/>
            <a:ahLst/>
            <a:rect l="l" t="t" r="r" b="b"/>
            <a:pathLst>
              <a:path w="3504" h="4967">
                <a:moveTo>
                  <a:pt x="15105" y="7336"/>
                </a:moveTo>
                <a:cubicBezTo>
                  <a:pt x="15164" y="7416"/>
                  <a:pt x="15200" y="7467"/>
                  <a:pt x="15229" y="7567"/>
                </a:cubicBezTo>
                <a:cubicBezTo>
                  <a:pt x="15360" y="8016"/>
                  <a:pt x="15314" y="8507"/>
                  <a:pt x="15235" y="8960"/>
                </a:cubicBezTo>
                <a:cubicBezTo>
                  <a:pt x="15165" y="9361"/>
                  <a:pt x="15048" y="9762"/>
                  <a:pt x="14916" y="10146"/>
                </a:cubicBezTo>
                <a:cubicBezTo>
                  <a:pt x="14781" y="10539"/>
                  <a:pt x="14479" y="10937"/>
                  <a:pt x="14386" y="11333"/>
                </a:cubicBezTo>
                <a:cubicBezTo>
                  <a:pt x="14363" y="11430"/>
                  <a:pt x="14409" y="11290"/>
                  <a:pt x="14411" y="11286"/>
                </a:cubicBezTo>
              </a:path>
              <a:path w="3504" h="4967">
                <a:moveTo>
                  <a:pt x="17651" y="6412"/>
                </a:moveTo>
                <a:cubicBezTo>
                  <a:pt x="17716" y="6450"/>
                  <a:pt x="17720" y="6424"/>
                  <a:pt x="17762" y="6527"/>
                </a:cubicBezTo>
                <a:cubicBezTo>
                  <a:pt x="17887" y="6833"/>
                  <a:pt x="17863" y="7251"/>
                  <a:pt x="17871" y="7573"/>
                </a:cubicBezTo>
                <a:cubicBezTo>
                  <a:pt x="17886" y="8151"/>
                  <a:pt x="17869" y="8729"/>
                  <a:pt x="17833" y="9306"/>
                </a:cubicBezTo>
                <a:cubicBezTo>
                  <a:pt x="17803" y="9789"/>
                  <a:pt x="17785" y="10281"/>
                  <a:pt x="17704" y="10759"/>
                </a:cubicBezTo>
                <a:cubicBezTo>
                  <a:pt x="17679" y="10909"/>
                  <a:pt x="17701" y="10847"/>
                  <a:pt x="17656" y="1078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952880" y="3903840"/>
            <a:ext cx="150840" cy="210960"/>
          </a:xfrm>
          <a:custGeom>
            <a:avLst/>
            <a:gdLst/>
            <a:ahLst/>
            <a:rect l="l" t="t" r="r" b="b"/>
            <a:pathLst>
              <a:path w="421" h="586">
                <a:moveTo>
                  <a:pt x="14200" y="11194"/>
                </a:moveTo>
                <a:cubicBezTo>
                  <a:pt x="14223" y="11247"/>
                  <a:pt x="14211" y="11280"/>
                  <a:pt x="14203" y="11341"/>
                </a:cubicBezTo>
                <a:cubicBezTo>
                  <a:pt x="14195" y="11396"/>
                  <a:pt x="14192" y="11451"/>
                  <a:pt x="14185" y="11506"/>
                </a:cubicBezTo>
                <a:cubicBezTo>
                  <a:pt x="14179" y="11556"/>
                  <a:pt x="14171" y="11605"/>
                  <a:pt x="14165" y="11655"/>
                </a:cubicBezTo>
                <a:cubicBezTo>
                  <a:pt x="14159" y="11698"/>
                  <a:pt x="14159" y="11727"/>
                  <a:pt x="14165" y="11769"/>
                </a:cubicBezTo>
                <a:cubicBezTo>
                  <a:pt x="14235" y="11765"/>
                  <a:pt x="14262" y="11717"/>
                  <a:pt x="14313" y="11660"/>
                </a:cubicBezTo>
                <a:cubicBezTo>
                  <a:pt x="14356" y="11612"/>
                  <a:pt x="14395" y="11572"/>
                  <a:pt x="14451" y="11539"/>
                </a:cubicBezTo>
                <a:cubicBezTo>
                  <a:pt x="14493" y="11514"/>
                  <a:pt x="14537" y="11490"/>
                  <a:pt x="14579" y="11465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116760" y="3651120"/>
            <a:ext cx="230040" cy="209520"/>
          </a:xfrm>
          <a:custGeom>
            <a:avLst/>
            <a:gdLst/>
            <a:ahLst/>
            <a:rect l="l" t="t" r="r" b="b"/>
            <a:pathLst>
              <a:path w="640" h="582">
                <a:moveTo>
                  <a:pt x="17393" y="10491"/>
                </a:moveTo>
                <a:cubicBezTo>
                  <a:pt x="17435" y="10543"/>
                  <a:pt x="17454" y="10593"/>
                  <a:pt x="17478" y="10656"/>
                </a:cubicBezTo>
                <a:cubicBezTo>
                  <a:pt x="17499" y="10711"/>
                  <a:pt x="17519" y="10767"/>
                  <a:pt x="17543" y="10821"/>
                </a:cubicBezTo>
                <a:cubicBezTo>
                  <a:pt x="17566" y="10872"/>
                  <a:pt x="17587" y="10925"/>
                  <a:pt x="17621" y="10970"/>
                </a:cubicBezTo>
                <a:cubicBezTo>
                  <a:pt x="17653" y="11013"/>
                  <a:pt x="17657" y="11020"/>
                  <a:pt x="17662" y="11072"/>
                </a:cubicBezTo>
                <a:cubicBezTo>
                  <a:pt x="17711" y="11030"/>
                  <a:pt x="17737" y="10979"/>
                  <a:pt x="17766" y="10919"/>
                </a:cubicBezTo>
                <a:cubicBezTo>
                  <a:pt x="17802" y="10844"/>
                  <a:pt x="17848" y="10777"/>
                  <a:pt x="17893" y="10707"/>
                </a:cubicBezTo>
                <a:cubicBezTo>
                  <a:pt x="17934" y="10645"/>
                  <a:pt x="17973" y="10598"/>
                  <a:pt x="18032" y="1055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6ADB3F-FD17-41D8-8BC7-A837C95F790D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2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599064-00D3-42BD-BFC5-9D01CC82A569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11-08T17:20:15Z</dcterms:modified>
  <cp:revision>545</cp:revision>
  <dc:subject/>
  <dc:title>Aspect-Oriented Programming with AspectJ</dc:title>
</cp:coreProperties>
</file>